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48589-5730-482B-878B-71C9641A0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895E9-9D03-443C-BB3E-5E59F4F19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63A04-DBBE-4ECC-A98C-FF3503724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DF514-6855-413B-AE8C-418ABF104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BADB2-4CA3-42E6-B365-E37AF68D9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8A0DE-2969-4EAE-AE57-613245DC3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C7785-D616-4AC3-8E5D-B275FF730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898D9-B9AD-42B2-9BC2-11108D842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5EC33-947C-4278-844F-36302033B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9F749-B337-48CD-876B-D0985B7D9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FABD9-F57A-4E03-B317-175691B81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46350-AFE2-4415-BD23-EA41029FC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524D7-CEA4-4365-8E72-8AC4AD2363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106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ALTE ROMANE  REALISTE INTERBEL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09680" y="4038480"/>
            <a:ext cx="640080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Manualul de Limba şi Literatura Română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clasa a X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-a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Doina Ruşti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4"/>
          <p:cNvSpPr/>
          <p:nvPr/>
        </p:nvSpPr>
        <p:spPr>
          <a:xfrm>
            <a:off x="533520" y="6248520"/>
            <a:ext cx="2571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Sesiunea iunie - iuli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2670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Liviu Rebreanu – Ion (1920): Personajul titular al romanului ilustrează prin biografia sa situaţia satului românesc de la finele secolului al XIX-lea şi începutul secolului al XX-lea, din Transilvania, aflată în momentul acela sub ocupaţie austro-ungară. Destinul personajului este urmărit de-a lungul a două volume: Glasul pământului şi Glasul iubiri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on este sărac şi îşi doreşte cu ardoare să aibă pământ, să fie respectat şi iubit. El îşi îndeplineşte cu agresivitate idealul, trăind intens şi sfârşind dramat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Liviu Rebreanu – Pădurea spânzuraţilor (1922): este un roman despre conflictul dintre sentimentul datoriei şi cel al iubirii de ţară. Rebreanu creează aici un model de analiză psihologic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Liviu Rebreanu – Răscoala (1932): surprinde psihologia colectivă într-un moment limită, în contextul evenimentului real de la 190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Liviu Rebreanu – Gorila (1938): prezintă mai ales interes documentar, deoarece transpune perioada legionară, într-o încercare meritorie de conservare a obiectivităţii de scriitor realis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11" descr="comp_i"/>
          <p:cNvPicPr/>
          <p:nvPr/>
        </p:nvPicPr>
        <p:blipFill>
          <a:blip r:embed="rId1"/>
          <a:stretch/>
        </p:blipFill>
        <p:spPr>
          <a:xfrm>
            <a:off x="4876920" y="1447920"/>
            <a:ext cx="3533760" cy="35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Teme şi evaluare orientativ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otă minimă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Realizaţi în scris caracterizarea a două personaje din Enigma Otiliei şi încadraţi-le într-o categorie umană sau socială. 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ezentaţi trăsăturile romanului călinescian.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Explicaţi ce se înţelege prin </a:t>
            </a:r>
            <a:r>
              <a:rPr b="0" i="1" lang="ro-RO" sz="1200" spc="-1" strike="noStrike">
                <a:solidFill>
                  <a:srgbClr val="000000"/>
                </a:solidFill>
                <a:latin typeface="Arial"/>
              </a:rPr>
              <a:t>hipercorectitudine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crieţi o scurtă compunere (20-30 de rânduri), la persoana I singular, în care să relataţi scena întâlnirii lui Felix cu unchiul său.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otă med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legeţi un citat din miniantologie şi comentaţi-l oral, cu referiri la subiectul operei în discuţi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ăsiţi în romanul lui Călinescu cinci informaţii despre epocă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Realizaţi în scris schiţa caracteriologică a cinci personaje din roman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otă m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În ce constă clasicismul operei lui Călinescu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? [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mentaţi în scris teoria lui Pascalopol despre sufletul mediocru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racterizaţi vocea auctorială din romanul călinescian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45720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NEE</dc:creator>
  <dc:description/>
  <dc:language>en-US</dc:language>
  <cp:lastModifiedBy>Guest</cp:lastModifiedBy>
  <dcterms:modified xsi:type="dcterms:W3CDTF">2012-06-15T12:33:47Z</dcterms:modified>
  <cp:revision>24</cp:revision>
  <dc:subject/>
  <dc:title>ALTE ROMANE  REALISTE INTERBEL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